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18E19-C7E0-4AAE-9FFE-0321EB68F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906DD-A835-4C13-B3ED-F9AC7D92FD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C6A4F-6CAB-49A7-A57F-6EB5146E1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3AE8F-8510-4CF7-8F4C-9FDD5C493B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BAFED-B8F0-42B5-A10F-69191E6A0F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A9809-C022-4277-AB54-FDD709B49E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89CD5-41C3-4CF6-A89C-C7286D896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748E0-40FD-47B6-A4C6-3E73080ECB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356-9FDD-4A03-B3BC-02DA42EF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B13-4CE9-4B0C-87DA-277199FC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889-396B-4D76-90E9-32F2F73D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02B-6AD7-4CF2-800F-B66003C0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533-F4FC-4A61-AEA6-08124B5D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37E-4851-461B-9E69-99B98E6F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B0A-2279-4B19-A9B1-B6680023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0AC-91ED-4F8B-95F2-7DC0F154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A39-A353-4B12-BEC2-A5512FF2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637-74DB-46D6-84ED-783F896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E3F-44A6-4B15-BB37-F7DED1F5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47C-44AB-4A63-889B-2231296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20E7F-5531-4CB7-ABCB-3AC4FA3CC3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279800" y="2103480"/>
            <a:ext cx="762696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How Great Is Our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20640" y="186228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splendor of the K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othed in majes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et all the earth rejoi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ll the earth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 wraps Himself in l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darkness tries to h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rembles at His voi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rembles at His 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20640" y="186228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ge to age He sta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ime is in His ha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ginning and the e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ginning and 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Godhead, three in 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ather, Spirit, S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Lion and the Lamb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Lion and the La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20640" y="1862280"/>
            <a:ext cx="876312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Name above all nam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orthy of all prai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y heart will 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1-06-08T04:58:00Z</dcterms:modified>
  <cp:revision>28</cp:revision>
  <dc:subject/>
  <dc:title>Slide 1</dc:title>
</cp:coreProperties>
</file>